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-графика и анимация в программ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697B-B404-4C66-A444-445F746FBB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ите свиток Edit Geometry. И напротив кнопки Extrude ведите число 0,01. После этого у нас появился еще один ряд полигонов, но он слишком маленький, для того, чтобы увеличить его используйте инструмент Select and Non-uniform Scale по осям XY по фронтальному, относительно модели, ви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980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3-33" descr=""/>
          <p:cNvPicPr/>
          <p:nvPr/>
        </p:nvPicPr>
        <p:blipFill>
          <a:blip r:embed="rId1"/>
          <a:stretch/>
        </p:blipFill>
        <p:spPr>
          <a:xfrm>
            <a:off x="287280" y="1125360"/>
            <a:ext cx="37450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6E4C-6538-46F2-9724-DE83D3A7C6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48000" y="1195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-33" descr=""/>
          <p:cNvPicPr/>
          <p:nvPr/>
        </p:nvPicPr>
        <p:blipFill>
          <a:blip r:embed="rId1"/>
          <a:stretch/>
        </p:blipFill>
        <p:spPr>
          <a:xfrm>
            <a:off x="358920" y="1160640"/>
            <a:ext cx="37083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836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C327-FC43-4E39-BD8F-3B156A2595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720" y="5040"/>
            <a:ext cx="79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еобразование двухмерных форм в трехме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бъекты: выдав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9781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боты редактора выдавливания прост: создается некоторая сплайновая форма, которая используется для создания трехмерного объекта с заданным сечением. Такой метод очень удобен для моделирования предметов, имеющих постоянное поперечное сечение вдоль одной из о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5760" y="46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64220" descr="Extrusion Editor"/>
          <p:cNvPicPr/>
          <p:nvPr/>
        </p:nvPicPr>
        <p:blipFill>
          <a:blip r:embed="rId1"/>
          <a:stretch/>
        </p:blipFill>
        <p:spPr>
          <a:xfrm>
            <a:off x="2087640" y="3357720"/>
            <a:ext cx="4680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EE52-131F-4589-BC38-121BDB0371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76140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построения сплайна по точкам мало чем отличается от создания кривой в любой программе для векторной графики. Для каждой точки можно выбрать один из трех типов излома, а форму линии можно корректировать с помощью касательных. На панели инструментов редактора выдавливания можно найти инструмент для замыкания кривой, а также кнопки для быстрого создания 2D-форм самых распространенных типов: звездочки, стрелки, значка "плюс" и прочи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7040" y="50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64221" descr="Extrusion Editor"/>
          <p:cNvPicPr/>
          <p:nvPr/>
        </p:nvPicPr>
        <p:blipFill>
          <a:blip r:embed="rId1"/>
          <a:stretch/>
        </p:blipFill>
        <p:spPr>
          <a:xfrm>
            <a:off x="1476360" y="4545000"/>
            <a:ext cx="57247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A107-4B93-446E-87D7-940616FB96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908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увидеть результат работы с этим инструментом, нужно вернуться на этап работы с редактором сц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79880" y="35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64222" descr="Extrusion Editor"/>
          <p:cNvPicPr/>
          <p:nvPr/>
        </p:nvPicPr>
        <p:blipFill>
          <a:blip r:embed="rId1"/>
          <a:stretch/>
        </p:blipFill>
        <p:spPr>
          <a:xfrm>
            <a:off x="2303640" y="1700280"/>
            <a:ext cx="3947760" cy="3098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1640" y="5011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авливание можно также производить со скосом, что даст возможность получить несколько иной профиль конечной мо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58DB-6A68-4FB9-842E-012341320F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068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park2_2" descr=""/>
          <p:cNvPicPr/>
          <p:nvPr/>
        </p:nvPicPr>
        <p:blipFill>
          <a:blip r:embed="rId1"/>
          <a:stretch/>
        </p:blipFill>
        <p:spPr>
          <a:xfrm>
            <a:off x="431640" y="1484280"/>
            <a:ext cx="8209080" cy="4346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560" y="8719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материала для текстурной развер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728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683E-4E6A-44BB-8835-2B10726F77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76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452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park2_17" descr=""/>
          <p:cNvPicPr/>
          <p:nvPr/>
        </p:nvPicPr>
        <p:blipFill>
          <a:blip r:embed="rId1"/>
          <a:stretch/>
        </p:blipFill>
        <p:spPr>
          <a:xfrm>
            <a:off x="324000" y="944640"/>
            <a:ext cx="3816360" cy="168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06880" y="538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park2_18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72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19640" y="9460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296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9640" y="979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 для снятия развер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211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стурная развер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1852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6FA2-6F45-462E-B73C-1A94A11D75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2673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здание и наложение текстур для фигуры полицей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map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472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304-09B7-4D24-A876-053486C1A1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0000" y="159228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ный и озвученный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ерсонаж для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созданный методом анимирования по ключевым кад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3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sound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2B3B-2556-4D55-8670-F9E5F4070B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0000" y="1197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раметрическая анимация  таяние и рас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вязан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ие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иерархий       двуногие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080" y="1160640"/>
            <a:ext cx="4211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mel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blas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position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BiiiardReac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collision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works52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_particles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ootStScele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720" y="1879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зновидности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аним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74B5-5ACB-4FB2-BEDB-094785D860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98440"/>
            <a:ext cx="3708360" cy="255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48000" y="1124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объект, который мы постро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сф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ём сферу радиусом 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оличество сегментов задаём равное... давайте попробуем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FA93-664E-492F-9932-778032CFAE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D979-796E-489A-BF9D-AD0C60EA7D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48000" y="102528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ом окне, где соединяются продольные линии сферы нажмите на 4/5 влево от центральной точки сферы и продолжайте рисовать этот сплайн до конца. В итоге закройте его. Вот подробны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360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-33" descr=""/>
          <p:cNvPicPr/>
          <p:nvPr/>
        </p:nvPicPr>
        <p:blipFill>
          <a:blip r:embed="rId1"/>
          <a:stretch/>
        </p:blipFill>
        <p:spPr>
          <a:xfrm>
            <a:off x="216000" y="1174680"/>
            <a:ext cx="3708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258D-1198-4422-8AFD-31DFCAF95D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8000" y="115704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в сплайне делайте только тогда, когда под Вашим курсором стоит синий крестик, т.к. нам нужно чтобы сплайн выравнивался по вершинам сферы. В итоге в окне Perspective будет примерно такой ви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28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4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89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A064-173A-4013-8D64-DA6721EB6C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ём на кнопку S (на клавиатуре), чтобы выключить выравнивание по точ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в поле Number of copies число 1. Нажмите OK. В результате у нас будет уже не один, а два идентичных сплайна, но один из них будет немного отступать от сферы, а не прилегать вплотную как пер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5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A1B5-663B-4E52-A881-B2A0230DED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9640" y="9864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нам нужно сделать сплайны-мостики между этими двумя большими сплайнами. . Выбираем сплайн (теперь он единственный). Во вкладке Modify нажимаем на кнопку Vertex (в свитке Selection), на которой нарисовано четыре точки. И нажимаем на кнопку Create Line, которая находится в свитке Geometry. Теперь, нажмите на любую точку, на сплайне, а затем нажмите на точку, располагающеюся перед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0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6-333" descr=""/>
          <p:cNvPicPr/>
          <p:nvPr/>
        </p:nvPicPr>
        <p:blipFill>
          <a:blip r:embed="rId1"/>
          <a:stretch/>
        </p:blipFill>
        <p:spPr>
          <a:xfrm>
            <a:off x="287280" y="1160640"/>
            <a:ext cx="3708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9C9D-0704-484C-8464-9599E8D07A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1377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рисовать промежуточные сплайны, а потом соединить их. Сплайны в дальнейшем будут создаваться кнопкой Create Line, а не Line Shape (читайте выше). Вот какие и где должны будут быть у Вас спла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7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163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AB14-62F3-4A07-98F5-7E21EB65C3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48000" y="11224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упим к созданию мостиковых сплайнов. Это гораздо проще. Начинайте их строить от самого маленького сплайна к самому крупному, попарно соединяя точки. 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27080" y="41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8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9C75-4FC1-4830-8F7B-0A75D4C363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8000" y="11577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стимся в стеках на Surface. И сконвертируем модель в Editable Mesh, нажав по ней правой кнопкой мыши и выбрал Convert To: / Convert To Editable Mesh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0-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512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44:32Z</dcterms:modified>
  <cp:revision>107</cp:revision>
  <dc:subject/>
  <dc:title>Lecture Template </dc:title>
</cp:coreProperties>
</file>